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03EE-1185-452A-B067-69BD1C5F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054-63AD-4A2E-96AF-992F6D98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8823-6B69-42D9-9F37-520224D2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DBF-F569-4DFF-97AB-D798B264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65D9-C563-4C2C-BDED-69E993F9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0E40-EEAB-413A-B1BA-B1B3E3A9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3DA4-F247-491D-81E9-C437A269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9581-13F4-4391-A1D6-81CD3B34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228B-658E-437C-AD91-BF995AC5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B6B4-FF9D-41ED-B876-D1A1C0F4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8D96-991B-4CF8-B338-C26F08E6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353-77F5-4AF8-A28B-9A8FDB6B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146A-D727-4D34-8844-1C8984FA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BA42-5B78-4AE0-A1A3-9ED6E7C7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6022-A8EC-4617-98D8-D3EA5382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93ED-D8A1-4F2C-B93E-A5182042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8B79-2809-4BCE-9DBD-7877D5ED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61FEC-F595-45A7-93AD-FFA96DE7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A884A-C631-426C-8494-7AAF777E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05822-AB09-411C-8098-CB7A4F64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04D7A-6A49-401B-A89B-A6F94995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CE551-4405-4887-BD38-0CE05074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86F-CB10-4E9E-BFDF-C8E0DC16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6A89C-221B-40ED-B183-5A54737E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0628-5C8C-4F16-B3D0-7B4FE2A3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77043-033F-4FB1-AED8-DCF93B0F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1D382-5651-4A2C-984C-A8063A6F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88EE-D926-4E4E-9809-9C25CBF3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AAD46-0251-4434-99D0-34904EB9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88A0-D6BD-4E3B-B20C-F41AA33D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6357C7-8289-41EB-9A10-82C67B8D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AE7A5D-8213-42B2-97F0-E06CAB61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A630A2-4831-4E05-AB4D-08373A17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240-1460-488A-9C3D-7FDA9DB5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EE518-8392-43FD-931A-AF91C0AC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0B481F-DC8A-4854-98C4-A5B24635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0BA9C7-3D3A-4650-AA52-378F41FF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C4A53B-6788-4907-8781-90CC9FFE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1EAAD-51E2-4992-A046-8752C6B3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82B4C9-F5DC-4268-976B-36D61AB3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579720-9393-4A4D-8917-3025C69A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663006-6181-4E15-80C4-8138B470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7ADB0E-5F65-4D87-9AAF-A8E7C725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B9141-B850-4A62-B78F-F6987117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32B-5052-4CAF-AEC4-B3533F73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F66AC-D5A1-4CB1-BC08-793CF38A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8F7E5-3503-432C-9A34-67DE8121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FD6844-385D-45F6-A39B-02B0683C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BAA03-EB52-491D-B887-FB9DC570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C96F7-47A9-49E4-86CC-4D788C00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F27B5-B123-4D44-8AD2-E3AA8C7E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E43BE3-8F95-49B5-A85F-C7F1A3EE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090C4-6F22-49CB-9761-8318690B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2484A1-8B88-4235-8674-345909C4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05291-3FBA-4F2C-A941-266AD9C9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F8C-C319-436F-9CB0-E8124541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987FB-48B7-495A-9C58-1C7963BF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4CF8B-D289-47C4-A6B9-10432B7C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F80D4-5FFF-4EC7-B990-B21B4592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D8E68-82CE-46AB-A041-68583B45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1241D-5BF2-4465-BE1B-051ECD60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45A3A-7055-4780-A68B-82674E8D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3B739-0444-47D9-A8AD-08D6CC64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9AA79-5E53-4D7B-9CDB-D9DC29FA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344BD-97B3-41DD-BB0D-88E7AC02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4997A-25BB-4346-BE3A-FF2140F4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384-F093-4EE2-BFA2-9FB89757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3759B-01E8-4E6D-8825-C1ACDD56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3FBD9-DC49-4F18-B2F2-BBA4A590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B8DB7-777A-4E2A-B52D-1703300A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928C-B862-4BF8-A7F6-DAE239FB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CCB-BF4C-4146-A6B7-6C4518DC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F979-74D2-462C-810D-D1A1EF639BD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B4AE-8266-4A36-B3AF-E6AC97DFECA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6EAE-6C65-416D-A97E-78613D98A5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6573-B987-4595-ADCC-486EEFB9F5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7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B4E9-9373-472A-8209-B5334F0C62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3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9617-A832-4698-9E10-91BB851194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Gran cin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cin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muy grande y magnific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ran Apertura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cine tiene comod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butaca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muy bueno para largo pelicula. L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boleto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es 50 por ciento de descuento. La boletos es cinco dolores. Comedas es uno dolores. No esperar en la cola es muy rapid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a </a:t>
            </a: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pelicula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,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 noche la pelicula es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wer he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host bus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ct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s Johnny Depp es en dos pelicul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pelicula 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oblad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n English y en versi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igin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</a:t>
            </a:r>
            <a:r>
              <a:rPr b="0" lang="en-US" sz="4400" spc="-1" strike="noStrike" u="sng">
                <a:solidFill>
                  <a:srgbClr val="e3e3ff"/>
                </a:solidFill>
                <a:uFillTx/>
                <a:latin typeface="Arial"/>
              </a:rPr>
              <a:t>pantalla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antalla es muy claro no es bajo es gran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pus de la pelicula usted puede dejar en tax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6:37:23Z</dcterms:created>
  <dc:creator>chernoffale</dc:creator>
  <dc:description/>
  <dc:language>en-US</dc:language>
  <cp:lastModifiedBy>chernoffale</cp:lastModifiedBy>
  <dcterms:modified xsi:type="dcterms:W3CDTF">2011-12-23T14:53:22Z</dcterms:modified>
  <cp:revision>8</cp:revision>
  <dc:subject/>
  <dc:title>El Gran cine</dc:title>
</cp:coreProperties>
</file>